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gif" ContentType="image/gif"/>
  <Override PartName="/ppt/media/image7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9DA8-9C75-4D6A-9327-E3B97CE76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4449-855B-4D14-8CA0-9510C10F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CFAE-B185-4D22-B028-0A7395839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4ECC-AD05-4871-B60B-C98116C97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15D8-93F2-4E82-BF06-CD1833DA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394E-1C0C-4241-80F3-1DA2E863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EF95-EC46-4AE4-A6DC-836AB3EB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3E2F-11FB-4155-AC22-D5713E15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5871-513B-466C-B7DB-6F595132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1D5A-FAAB-4CB8-B6ED-12E542F7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AAC6-62A2-4E99-93A7-FE78E1D6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95CE-75C4-44A9-8067-E640527F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E977-477D-47A8-8623-9944C301E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igestiv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581280" y="2133720"/>
            <a:ext cx="2262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s wa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14 cm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3276360" cy="3233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791320" y="4267080"/>
            <a:ext cx="1295280" cy="10670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cle that controls when wastes leaves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2170080" cy="29955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 flipV="1">
            <a:off x="4572000" y="4572000"/>
            <a:ext cx="1828800" cy="1371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cal digestion - te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digestion – sal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 cm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859280" y="2128680"/>
            <a:ext cx="361476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ophag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cular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stal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25 cm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038480" y="1752480"/>
            <a:ext cx="3962520" cy="3716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5880" y="3276720"/>
            <a:ext cx="1219320" cy="1523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1905120"/>
            <a:ext cx="335268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estive ju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y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22 cm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724280" y="2438280"/>
            <a:ext cx="287676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digestion occur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es pass out through villi into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690 cm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710240" y="1871640"/>
            <a:ext cx="3914640" cy="3981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791320" y="3657600"/>
            <a:ext cx="1676160" cy="1752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ncre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ory or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does not go through the panc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chemicals to help break down macro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964040" y="1600200"/>
            <a:ext cx="340524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477120" y="4267080"/>
            <a:ext cx="990360" cy="7621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ory or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many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bile to help digest f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504960" cy="3460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29200" y="2362320"/>
            <a:ext cx="1981080" cy="13716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l Blad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ory or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s 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digest f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964040" y="1600200"/>
            <a:ext cx="3405240" cy="4525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324480" y="3809880"/>
            <a:ext cx="533520" cy="8384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rge Intestine (Col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bs extra nutrients &amp;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s wastes into soli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152 cm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562720" y="2057400"/>
            <a:ext cx="1963440" cy="3186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flipV="1">
            <a:off x="2743200" y="4266720"/>
            <a:ext cx="3048120" cy="838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13:33:40Z</dcterms:created>
  <dc:creator>TMLDR_POARCH</dc:creator>
  <dc:description/>
  <dc:language>en-US</dc:language>
  <cp:lastModifiedBy>AHISD</cp:lastModifiedBy>
  <dcterms:modified xsi:type="dcterms:W3CDTF">2006-01-06T15:48:52Z</dcterms:modified>
  <cp:revision>13</cp:revision>
  <dc:subject/>
  <dc:title>The Digestive System</dc:title>
</cp:coreProperties>
</file>